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ECE-D342-4786-A8F3-5C9A8FC7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DD5-0D94-4D6D-8D94-F282F37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18D-2F4D-43CE-8065-52725930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05E-C2F4-477A-9F43-6C4E0D79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B006-DEE2-4EA6-9F25-B0823D13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53BC-1786-41C6-85D4-78C500EA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3AA0-BF85-4A80-BD08-1AFE49EC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FB8F-676D-433C-AD37-35D7B33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A6F4-AE1B-40D8-9B2D-71E2A0F7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3960-8AFB-4737-98E7-56B1BCC7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262C-4CA1-4611-B9E2-9EAC9D44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7EF-7A6E-43A4-BB2B-E33610E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FE66-650C-471D-BCC2-76397D30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E6F3-95A4-4096-B749-B8E3CD66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8B22-B81B-49F0-B9AB-513D659A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8916-B029-47D0-BA58-2CBA7CA6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F9AC-54BB-4729-9617-AB7B96D7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BEF-39A9-44EE-9224-0653F8BA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ADA-FAEE-4A2B-BA73-68D7E67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BDC-C615-4301-B98F-119C6A8D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A19-8A45-4D0B-8B5F-113BBC18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76E-DF96-43D1-BCEB-2248F85A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B14-C3DA-4939-9052-88A41E0A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879-4C02-4C8A-88F5-9058DD1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F754-6FC0-451A-BC11-A672ABEC232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5F09-F5F3-4175-A561-E83D255F03C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ffcc66"/>
                </a:solidFill>
                <a:latin typeface="Arial"/>
              </a:rPr>
              <a:t>تويوتا </a:t>
            </a:r>
            <a:r>
              <a:rPr b="1" lang="ar-AE" sz="5400" spc="-1" strike="noStrike">
                <a:solidFill>
                  <a:srgbClr val="ffcc66"/>
                </a:solidFill>
                <a:latin typeface="Arial"/>
              </a:rPr>
              <a:t>1200</a:t>
            </a:r>
            <a:r>
              <a:rPr b="1" lang="ar-AE" sz="5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GT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Times New Roman"/>
              </a:rPr>
              <a:t>السيارة النموذج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5450040"/>
            <a:ext cx="24382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66"/>
                </a:solidFill>
                <a:latin typeface="Arial"/>
              </a:rPr>
              <a:t>التصميم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Times New Roman"/>
              </a:rPr>
              <a:t>الهيكل الخارج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ar-AE" sz="3200" spc="-1" strike="noStrike">
                <a:solidFill>
                  <a:srgbClr val="ffffff"/>
                </a:solidFill>
                <a:latin typeface="Times New Roman"/>
              </a:rPr>
              <a:t> يمتاز بالانسيابية والتصميم           الجيد ولها أربعة مصابيح أمامية تعمل                    بتقنية الليزر وتتوفر بعدة ألوان وعدة أحجام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Times New Roman"/>
              </a:rPr>
              <a:t>الهيكل الداخلي مريح وفاخر ويمكن للزبون أن يختار المواصفات المناسبة لاحتياجاته من ناحية لون المقاعد والمادة المستخدمة لصناعتها سواء كانت من الجلد الطبيعي أو من القماش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8:57:17Z</dcterms:created>
  <dc:creator>12:54</dc:creator>
  <dc:description/>
  <dc:language>en-US</dc:language>
  <cp:lastModifiedBy>MohdA</cp:lastModifiedBy>
  <dcterms:modified xsi:type="dcterms:W3CDTF">2004-08-05T10:23:12Z</dcterms:modified>
  <cp:revision>8</cp:revision>
  <dc:subject/>
  <dc:title>TFE 1200</dc:title>
</cp:coreProperties>
</file>